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6.jpeg" ContentType="image/jpeg"/>
  <Override PartName="/ppt/media/image1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F123-FF20-4C46-B949-25A146B50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6AAC-4AED-4AF2-B8AA-97EB855A9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F20B-2735-4E9B-89FA-11A6C1425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BF93-480F-414F-B30A-0E699C234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826D8-51F1-473B-BEC2-7D91928B6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FB633-2358-48F3-91BC-8B58AE93A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228FE-9EAB-4626-93E2-993CD24CF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9A335-4355-4211-8915-3039DE5CA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622E9-2D15-4736-9FAD-774160DB7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D29FE-8BDB-4487-A8F0-514351E80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48E9E-8731-483C-9C6B-B3632CCA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6EDA-8BB1-42E8-A900-EC714333C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5C848-EC81-4D29-80C5-3DCDB5DA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1208C-6D9C-4B5E-A425-43B9EF4C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CDF6D-C613-470C-A7CB-3DF59A8F6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70CDD-707B-4DF8-90EA-548563394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80670-34A9-4FCF-A9D2-6AC030F38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3AA96-0DD0-44CA-8EFF-EB0B7AF85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064D1-525E-4C21-87F3-9A17BC976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F7E0D-6416-47B2-AE0C-2921D4DF0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7BBBD-820D-4D87-B499-C4C4C8BA2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D1A47-A3E4-4C19-802D-FA28DD30D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576A-C1AC-45CB-9C26-5CC2A96FF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07010-1762-4666-AADB-8D9649452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C3346-3356-4920-A37D-B0932A65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D2E55-5C66-4269-87C0-7727A616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B45CB-06CF-4611-91CD-D733D639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162D8-8D83-4DD0-858B-953BA9CF0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ADEE3-132E-4236-91B6-0C313CD23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AEB77-404A-4BB1-A43C-FB5FB45C9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AC24A-BAA2-4502-AE8C-35D5AFD6D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E5B61-B53E-470B-804D-3E5C5B243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90155-85A6-4FF6-9804-F4C2ECE80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361E-2E30-4EC6-B3CE-1E853A112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46A54-076E-430C-A0E4-28159C964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8D660-CF52-4633-A3FA-06E8EF441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0EFF9-3ACE-4C5F-BBE3-AAD1E0B5C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92F72-9D6A-4715-8AFD-4485F4B7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D69EC-3506-4C32-BDB9-5784ACD7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500A5-6038-40F5-A056-C9A3D194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C0ECD-9E73-4120-A315-E05A9A7B9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5E778-C072-46DF-B85E-FF7181C7E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1D2F2-66A9-416E-8989-058A5EF15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27D76-197B-4EBF-A09D-4A14C3BFA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A1F2-42A0-4811-90BD-6C5D27B28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EB0B2-823A-4EBC-AF99-534F745C3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2F7DD-79A2-4898-B607-8E9061142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087AB-38F0-4BA3-B000-F6E0A6103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9B903-2DEF-4483-AEED-F4C30F771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5352B-233C-4AFD-8E67-102FCD116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B793F-CDF5-497F-BAF3-DFBFDA1C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51552-CFCA-44B4-AC63-65E38174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AD092-4BFB-4C36-A034-3479876F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2235A-94A3-4A0F-9DBB-527F4E696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3FA6C-9C43-4B71-9697-F0FC68136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D372-E5E6-49B0-9D15-B9E33CDFE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2EB3D-729F-4469-8A56-B98F96495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F41E3-E566-4C9E-B997-73C9A1822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82D58-967B-46F1-B372-CAB046F08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6D8D57-D144-4E6F-B00D-2B0748E16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8B904-A132-4970-AE5B-DB46C33E9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4D87C-8CBF-43DD-9047-0851ECF63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D4666-DFAD-4D60-A8A4-6E4659ABE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7F119-75D4-42C2-A1BE-CB9ED16C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7B8ABA-7D26-4CDA-9D27-706F3AE4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10766-D82B-4F8B-AF87-C833A1B0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9D96-7E74-48B9-9AE6-9541E717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0173B-AA1F-4D5D-8D30-AC4E5C3F1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0555E-F7AE-456A-968D-0FACC2A5C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A2F44-C749-48E3-A57B-182EFA81C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29349D-C169-44A6-99C3-E818088D7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4F9D7-7233-4581-95A5-E44C8D8BE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D443D-5EF4-4B6F-96F4-3832BC11E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77693-3F9E-4F4C-80A2-5972310E9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1ECE4-38EA-411D-AC8C-4ECA097C9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AD793-4524-49BB-9068-5913C05D5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FD672-C27D-4DF1-A567-8FBF10FE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0E02-27A1-403B-9E94-24ABDF65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4025C-930D-4C81-94A4-C40456BA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5A54B-A204-4DB0-AEAF-BB931A9F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96DD97-A79F-46F3-AE0E-0FC3CD9B8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2A870-1291-4AD2-AD3B-C529AD058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CCFD4F-9F05-4FA8-AD70-94FA88DC8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260558-753A-41A1-9B06-748901E5C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2936FE-7C51-4A34-B543-41E2FA832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0DA187-700A-4CD4-97FA-C4926B9E9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ED5DF2-5125-43FF-A10F-0E100141E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BBEE6-AE6C-4D27-906D-877E08D37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8588-BF3F-43AC-B5CE-A25B1703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FE12FC-56C7-49FD-9AEC-89791B777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CE17AA-0DBE-48F6-A686-49DB1CA3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BE3B7F-FA2E-4E28-B9E7-670CD483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F4CCAD-DF1B-49AE-9910-0E0A6031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816EDD-AE14-4E3C-81E8-C24229AE2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3C2B53-DFA1-4F7F-A8F9-8507F8CAE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F6B5AC-0D71-4525-8264-17652D748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099A2-8DFC-4AC9-AE1E-EF6D659ED484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EFE4C-4FAD-40D0-906B-A26C26DBDE52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437F1-02EB-481F-ADA0-75AA0F79CE0C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25EFD-525D-4EC0-8E19-1E7976283B8D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84EC8-04E2-45A5-B4E3-BF1379D10AA7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C00AC-BACB-4BD5-B754-3D74F839B6F8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204BB-A3AF-4D50-A69A-6520C8776A80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4DB66-A799-4655-905A-936931400F9B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-6480" y="1066680"/>
            <a:ext cx="9217080" cy="2114640"/>
          </a:xfrm>
          <a:prstGeom prst="rect">
            <a:avLst/>
          </a:prstGeom>
          <a:ln w="0">
            <a:noFill/>
          </a:ln>
        </p:spPr>
      </p:pic>
      <p:sp>
        <p:nvSpPr>
          <p:cNvPr id="371" name="Подзаголовок 2"/>
          <p:cNvSpPr/>
          <p:nvPr/>
        </p:nvSpPr>
        <p:spPr>
          <a:xfrm>
            <a:off x="4929120" y="3286080"/>
            <a:ext cx="421488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Карпова Оксана Леонид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Быкова Лариса Валер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Чепкова Юлия Юр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Шаманаева Любовь Халил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одзаголовок 2"/>
          <p:cNvSpPr/>
          <p:nvPr/>
        </p:nvSpPr>
        <p:spPr>
          <a:xfrm>
            <a:off x="2357280" y="6286680"/>
            <a:ext cx="42148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25 ноября 2021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оугольник 5"/>
          <p:cNvSpPr/>
          <p:nvPr/>
        </p:nvSpPr>
        <p:spPr>
          <a:xfrm>
            <a:off x="928800" y="142920"/>
            <a:ext cx="757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ональная научно-практическая конферен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Эффективные механизмы повышения образовательных результатов обучающихс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оугольник 6"/>
          <p:cNvSpPr/>
          <p:nvPr/>
        </p:nvSpPr>
        <p:spPr>
          <a:xfrm>
            <a:off x="5000760" y="4714920"/>
            <a:ext cx="32144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ОУ «Школа №2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Губаха Пермский кр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499680"/>
            <a:ext cx="8229600" cy="55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У сороконожки 40 ножек. К зиме она прикупила 6 пар сапожек. Все равно 10 ножек остались без сапожек. Сколько у сороконожки было пар старых сапожек до того, как она купила новые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Арифметический способ решения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 • 2 = 12 ног в новых сапожка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0 — 12 = 28 ног босые и в старых сапога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8 — 10 = 18 ног в старых сапожка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8 : 2 = 9 пар старых сапог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0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0 п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3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Левая фигурная скобка 20"/>
          <p:cNvSpPr/>
          <p:nvPr/>
        </p:nvSpPr>
        <p:spPr>
          <a:xfrm rot="16200000">
            <a:off x="4326840" y="244800"/>
            <a:ext cx="561960" cy="7929720"/>
          </a:xfrm>
          <a:custGeom>
            <a:avLst/>
            <a:gdLst>
              <a:gd name="textAreaLeft" fmla="*/ 358920 w 561960"/>
              <a:gd name="textAreaRight" fmla="*/ 562320 w 561960"/>
              <a:gd name="textAreaTop" fmla="*/ 14400 h 7929720"/>
              <a:gd name="textAreaBottom" fmla="*/ 7915320 h 792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8"/>
                </a:cubicBezTo>
                <a:lnTo>
                  <a:pt x="10800" y="10713"/>
                </a:lnTo>
                <a:cubicBezTo>
                  <a:pt x="10800" y="10777"/>
                  <a:pt x="5400" y="10841"/>
                  <a:pt x="0" y="10841"/>
                </a:cubicBezTo>
                <a:cubicBezTo>
                  <a:pt x="5400" y="10841"/>
                  <a:pt x="10800" y="10905"/>
                  <a:pt x="10800" y="10969"/>
                </a:cubicBezTo>
                <a:lnTo>
                  <a:pt x="10800" y="21472"/>
                </a:lnTo>
                <a:cubicBezTo>
                  <a:pt x="10800" y="215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 пар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0 п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7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Левая фигурная скобка 20"/>
          <p:cNvSpPr/>
          <p:nvPr/>
        </p:nvSpPr>
        <p:spPr>
          <a:xfrm rot="16200000">
            <a:off x="4326840" y="244800"/>
            <a:ext cx="561960" cy="7929720"/>
          </a:xfrm>
          <a:custGeom>
            <a:avLst/>
            <a:gdLst>
              <a:gd name="textAreaLeft" fmla="*/ 358920 w 561960"/>
              <a:gd name="textAreaRight" fmla="*/ 562320 w 561960"/>
              <a:gd name="textAreaTop" fmla="*/ 14400 h 7929720"/>
              <a:gd name="textAreaBottom" fmla="*/ 7915320 h 792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8"/>
                </a:cubicBezTo>
                <a:lnTo>
                  <a:pt x="10800" y="10713"/>
                </a:lnTo>
                <a:cubicBezTo>
                  <a:pt x="10800" y="10777"/>
                  <a:pt x="5400" y="10841"/>
                  <a:pt x="0" y="10841"/>
                </a:cubicBezTo>
                <a:cubicBezTo>
                  <a:pt x="5400" y="10841"/>
                  <a:pt x="10800" y="10905"/>
                  <a:pt x="10800" y="10969"/>
                </a:cubicBezTo>
                <a:lnTo>
                  <a:pt x="10800" y="21472"/>
                </a:lnTo>
                <a:cubicBezTo>
                  <a:pt x="10800" y="215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Левая фигурная скобка 5"/>
          <p:cNvSpPr/>
          <p:nvPr/>
        </p:nvSpPr>
        <p:spPr>
          <a:xfrm rot="5400000">
            <a:off x="1535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 пар           5 пар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0 п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1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2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Левая фигурная скобка 20"/>
          <p:cNvSpPr/>
          <p:nvPr/>
        </p:nvSpPr>
        <p:spPr>
          <a:xfrm rot="16200000">
            <a:off x="4326840" y="244800"/>
            <a:ext cx="561960" cy="7929720"/>
          </a:xfrm>
          <a:custGeom>
            <a:avLst/>
            <a:gdLst>
              <a:gd name="textAreaLeft" fmla="*/ 358920 w 561960"/>
              <a:gd name="textAreaRight" fmla="*/ 562320 w 561960"/>
              <a:gd name="textAreaTop" fmla="*/ 14400 h 7929720"/>
              <a:gd name="textAreaBottom" fmla="*/ 7915320 h 792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8"/>
                </a:cubicBezTo>
                <a:lnTo>
                  <a:pt x="10800" y="10713"/>
                </a:lnTo>
                <a:cubicBezTo>
                  <a:pt x="10800" y="10777"/>
                  <a:pt x="5400" y="10841"/>
                  <a:pt x="0" y="10841"/>
                </a:cubicBezTo>
                <a:cubicBezTo>
                  <a:pt x="5400" y="10841"/>
                  <a:pt x="10800" y="10905"/>
                  <a:pt x="10800" y="10969"/>
                </a:cubicBezTo>
                <a:lnTo>
                  <a:pt x="10800" y="21472"/>
                </a:lnTo>
                <a:cubicBezTo>
                  <a:pt x="10800" y="215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Левая фигурная скобка 5"/>
          <p:cNvSpPr/>
          <p:nvPr/>
        </p:nvSpPr>
        <p:spPr>
          <a:xfrm rot="5400000">
            <a:off x="1535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Левая фигурная скобка 6"/>
          <p:cNvSpPr/>
          <p:nvPr/>
        </p:nvSpPr>
        <p:spPr>
          <a:xfrm rot="5400000">
            <a:off x="3821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 пар           5 пар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0 п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Левая фигурная скобка 20"/>
          <p:cNvSpPr/>
          <p:nvPr/>
        </p:nvSpPr>
        <p:spPr>
          <a:xfrm rot="16200000">
            <a:off x="4326840" y="244800"/>
            <a:ext cx="561960" cy="7929720"/>
          </a:xfrm>
          <a:custGeom>
            <a:avLst/>
            <a:gdLst>
              <a:gd name="textAreaLeft" fmla="*/ 358920 w 561960"/>
              <a:gd name="textAreaRight" fmla="*/ 562320 w 561960"/>
              <a:gd name="textAreaTop" fmla="*/ 14400 h 7929720"/>
              <a:gd name="textAreaBottom" fmla="*/ 7915320 h 792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8"/>
                </a:cubicBezTo>
                <a:lnTo>
                  <a:pt x="10800" y="10713"/>
                </a:lnTo>
                <a:cubicBezTo>
                  <a:pt x="10800" y="10777"/>
                  <a:pt x="5400" y="10841"/>
                  <a:pt x="0" y="10841"/>
                </a:cubicBezTo>
                <a:cubicBezTo>
                  <a:pt x="5400" y="10841"/>
                  <a:pt x="10800" y="10905"/>
                  <a:pt x="10800" y="10969"/>
                </a:cubicBezTo>
                <a:lnTo>
                  <a:pt x="10800" y="21472"/>
                </a:lnTo>
                <a:cubicBezTo>
                  <a:pt x="10800" y="215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Левая фигурная скобка 5"/>
          <p:cNvSpPr/>
          <p:nvPr/>
        </p:nvSpPr>
        <p:spPr>
          <a:xfrm rot="5400000">
            <a:off x="1535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Левая фигурная скобка 6"/>
          <p:cNvSpPr/>
          <p:nvPr/>
        </p:nvSpPr>
        <p:spPr>
          <a:xfrm rot="5400000">
            <a:off x="3821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Левая фигурная скобка 7"/>
          <p:cNvSpPr/>
          <p:nvPr/>
        </p:nvSpPr>
        <p:spPr>
          <a:xfrm rot="5400000">
            <a:off x="6643440" y="1928520"/>
            <a:ext cx="500040" cy="335772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3357720"/>
              <a:gd name="textAreaBottom" fmla="*/ 3344760 h 3357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4"/>
                  <a:pt x="10800" y="268"/>
                </a:cubicBezTo>
                <a:lnTo>
                  <a:pt x="10800" y="10532"/>
                </a:lnTo>
                <a:cubicBezTo>
                  <a:pt x="10800" y="10666"/>
                  <a:pt x="5400" y="10800"/>
                  <a:pt x="0" y="10800"/>
                </a:cubicBezTo>
                <a:cubicBezTo>
                  <a:pt x="5400" y="10800"/>
                  <a:pt x="10800" y="10934"/>
                  <a:pt x="10800" y="11068"/>
                </a:cubicBezTo>
                <a:lnTo>
                  <a:pt x="10800" y="21332"/>
                </a:lnTo>
                <a:cubicBezTo>
                  <a:pt x="10800" y="2146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 пар           5 пар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0 п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20-(6+5)=9 (пар)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Ответ: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9 пар старых сапожек было у сороконожк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до того, как она купила новые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4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25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Левая фигурная скобка 20"/>
          <p:cNvSpPr/>
          <p:nvPr/>
        </p:nvSpPr>
        <p:spPr>
          <a:xfrm rot="16200000">
            <a:off x="4326840" y="244800"/>
            <a:ext cx="561960" cy="7929720"/>
          </a:xfrm>
          <a:custGeom>
            <a:avLst/>
            <a:gdLst>
              <a:gd name="textAreaLeft" fmla="*/ 358920 w 561960"/>
              <a:gd name="textAreaRight" fmla="*/ 562320 w 561960"/>
              <a:gd name="textAreaTop" fmla="*/ 14400 h 7929720"/>
              <a:gd name="textAreaBottom" fmla="*/ 7915320 h 792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8"/>
                </a:cubicBezTo>
                <a:lnTo>
                  <a:pt x="10800" y="10713"/>
                </a:lnTo>
                <a:cubicBezTo>
                  <a:pt x="10800" y="10777"/>
                  <a:pt x="5400" y="10841"/>
                  <a:pt x="0" y="10841"/>
                </a:cubicBezTo>
                <a:cubicBezTo>
                  <a:pt x="5400" y="10841"/>
                  <a:pt x="10800" y="10905"/>
                  <a:pt x="10800" y="10969"/>
                </a:cubicBezTo>
                <a:lnTo>
                  <a:pt x="10800" y="21472"/>
                </a:lnTo>
                <a:cubicBezTo>
                  <a:pt x="10800" y="215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Левая фигурная скобка 5"/>
          <p:cNvSpPr/>
          <p:nvPr/>
        </p:nvSpPr>
        <p:spPr>
          <a:xfrm rot="5400000">
            <a:off x="1535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Левая фигурная скобка 6"/>
          <p:cNvSpPr/>
          <p:nvPr/>
        </p:nvSpPr>
        <p:spPr>
          <a:xfrm rot="5400000">
            <a:off x="3821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Левая фигурная скобка 7"/>
          <p:cNvSpPr/>
          <p:nvPr/>
        </p:nvSpPr>
        <p:spPr>
          <a:xfrm rot="5400000">
            <a:off x="6643440" y="1928520"/>
            <a:ext cx="500040" cy="335772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3357720"/>
              <a:gd name="textAreaBottom" fmla="*/ 3344760 h 3357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4"/>
                  <a:pt x="10800" y="268"/>
                </a:cubicBezTo>
                <a:lnTo>
                  <a:pt x="10800" y="10532"/>
                </a:lnTo>
                <a:cubicBezTo>
                  <a:pt x="10800" y="10666"/>
                  <a:pt x="5400" y="10800"/>
                  <a:pt x="0" y="10800"/>
                </a:cubicBezTo>
                <a:cubicBezTo>
                  <a:pt x="5400" y="10800"/>
                  <a:pt x="10800" y="10934"/>
                  <a:pt x="10800" y="11068"/>
                </a:cubicBezTo>
                <a:lnTo>
                  <a:pt x="10800" y="21332"/>
                </a:lnTo>
                <a:cubicBezTo>
                  <a:pt x="10800" y="2146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ограмма краткосрочного курс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о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нтеллектуальному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  направлению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«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ешение нестандартных задач по математике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»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 класс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10 часов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sp>
        <p:nvSpPr>
          <p:cNvPr id="431" name="TextBox 5"/>
          <p:cNvSpPr/>
          <p:nvPr/>
        </p:nvSpPr>
        <p:spPr>
          <a:xfrm>
            <a:off x="428760" y="11430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sp>
        <p:nvSpPr>
          <p:cNvPr id="433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5" name=""/>
          <p:cNvGraphicFramePr/>
          <p:nvPr/>
        </p:nvGraphicFramePr>
        <p:xfrm>
          <a:off x="285840" y="2000160"/>
          <a:ext cx="8429400" cy="382608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36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8" name=""/>
          <p:cNvGraphicFramePr/>
          <p:nvPr/>
        </p:nvGraphicFramePr>
        <p:xfrm>
          <a:off x="285840" y="2000160"/>
          <a:ext cx="8429400" cy="382608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39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1" name=""/>
          <p:cNvGraphicFramePr/>
          <p:nvPr/>
        </p:nvGraphicFramePr>
        <p:xfrm>
          <a:off x="285840" y="2000160"/>
          <a:ext cx="8429400" cy="382608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42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4" name=""/>
          <p:cNvGraphicFramePr/>
          <p:nvPr/>
        </p:nvGraphicFramePr>
        <p:xfrm>
          <a:off x="285840" y="2000160"/>
          <a:ext cx="8429400" cy="386424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45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7" name=""/>
          <p:cNvGraphicFramePr/>
          <p:nvPr/>
        </p:nvGraphicFramePr>
        <p:xfrm>
          <a:off x="285840" y="2000160"/>
          <a:ext cx="8429400" cy="386424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48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0" name=""/>
          <p:cNvGraphicFramePr/>
          <p:nvPr/>
        </p:nvGraphicFramePr>
        <p:xfrm>
          <a:off x="285840" y="2000160"/>
          <a:ext cx="8429400" cy="390060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9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51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3" name=""/>
          <p:cNvGraphicFramePr/>
          <p:nvPr/>
        </p:nvGraphicFramePr>
        <p:xfrm>
          <a:off x="285840" y="2000160"/>
          <a:ext cx="8429400" cy="390060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9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54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6" name=""/>
          <p:cNvGraphicFramePr/>
          <p:nvPr/>
        </p:nvGraphicFramePr>
        <p:xfrm>
          <a:off x="285840" y="2000160"/>
          <a:ext cx="8429400" cy="393876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57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285480" y="1643040"/>
            <a:ext cx="8715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Задачи курса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обучающие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формирование общеинтеллектуальных умений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углубление и расширение знаний учащихся по математике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создание условий для повышения эффективности подготовки выпускников начальной школы к ВПР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развивающие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формирование и развитие логического мышления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развитие внимание, памяти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воспитательные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формирование положительной мотивации к учению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формирование умение работать в группе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Заголовок 2" descr=""/>
          <p:cNvPicPr/>
          <p:nvPr/>
        </p:nvPicPr>
        <p:blipFill>
          <a:blip r:embed="rId1"/>
          <a:stretch/>
        </p:blipFill>
        <p:spPr>
          <a:xfrm>
            <a:off x="298440" y="85680"/>
            <a:ext cx="8394840" cy="14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9" name=""/>
          <p:cNvGraphicFramePr/>
          <p:nvPr/>
        </p:nvGraphicFramePr>
        <p:xfrm>
          <a:off x="285840" y="2000160"/>
          <a:ext cx="8429400" cy="393876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60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2" name=""/>
          <p:cNvGraphicFramePr/>
          <p:nvPr/>
        </p:nvGraphicFramePr>
        <p:xfrm>
          <a:off x="285840" y="2000160"/>
          <a:ext cx="8429400" cy="397512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0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63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5" name=""/>
          <p:cNvGraphicFramePr/>
          <p:nvPr/>
        </p:nvGraphicFramePr>
        <p:xfrm>
          <a:off x="285840" y="2000160"/>
          <a:ext cx="8429400" cy="397512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0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66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8" name=""/>
          <p:cNvGraphicFramePr/>
          <p:nvPr/>
        </p:nvGraphicFramePr>
        <p:xfrm>
          <a:off x="285840" y="2000160"/>
          <a:ext cx="8429400" cy="401328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=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69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1" name=""/>
          <p:cNvGraphicFramePr/>
          <p:nvPr/>
        </p:nvGraphicFramePr>
        <p:xfrm>
          <a:off x="285840" y="2000160"/>
          <a:ext cx="8429400" cy="401328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=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72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4"/>
          <p:cNvSpPr/>
          <p:nvPr/>
        </p:nvSpPr>
        <p:spPr>
          <a:xfrm>
            <a:off x="3571920" y="6000840"/>
            <a:ext cx="557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 пар старых сапожек было у сороконож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 того, как она купила нов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Полилиния 45"/>
          <p:cNvSpPr/>
          <p:nvPr/>
        </p:nvSpPr>
        <p:spPr>
          <a:xfrm>
            <a:off x="1297080" y="1859040"/>
            <a:ext cx="6159240" cy="3836880"/>
          </a:xfrm>
          <a:prstGeom prst="pie">
            <a:avLst/>
          </a:prstGeom>
          <a:solidFill>
            <a:srgbClr val="ffffff"/>
          </a:solidFill>
          <a:ln w="55080">
            <a:solidFill>
              <a:srgbClr val="1fae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76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46"/>
          <p:cNvSpPr/>
          <p:nvPr/>
        </p:nvSpPr>
        <p:spPr>
          <a:xfrm>
            <a:off x="5143680" y="121428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сороконожки 40 нож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Прямая со стрелкой 48"/>
          <p:cNvCxnSpPr/>
          <p:nvPr/>
        </p:nvCxnSpPr>
        <p:spPr>
          <a:xfrm flipH="1">
            <a:off x="5928840" y="1714320"/>
            <a:ext cx="858240" cy="857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519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58"/>
          <p:cNvSpPr/>
          <p:nvPr/>
        </p:nvSpPr>
        <p:spPr>
          <a:xfrm>
            <a:off x="357120" y="1357200"/>
            <a:ext cx="59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зиме она прикупила 6 пар сапож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568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Box 50"/>
          <p:cNvSpPr/>
          <p:nvPr/>
        </p:nvSpPr>
        <p:spPr>
          <a:xfrm>
            <a:off x="357120" y="128592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5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Полилиния 52"/>
          <p:cNvSpPr/>
          <p:nvPr/>
        </p:nvSpPr>
        <p:spPr>
          <a:xfrm>
            <a:off x="3664080" y="1876320"/>
            <a:ext cx="3717720" cy="2090880"/>
          </a:xfrm>
          <a:prstGeom prst="pie">
            <a:avLst/>
          </a:prstGeom>
          <a:solidFill>
            <a:srgbClr val="ffffff"/>
          </a:solidFill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619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Box 50"/>
          <p:cNvSpPr/>
          <p:nvPr/>
        </p:nvSpPr>
        <p:spPr>
          <a:xfrm>
            <a:off x="357120" y="1285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6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667" name="Группа 68"/>
          <p:cNvGrpSpPr/>
          <p:nvPr/>
        </p:nvGrpSpPr>
        <p:grpSpPr>
          <a:xfrm>
            <a:off x="4357800" y="1214280"/>
            <a:ext cx="4786200" cy="1500840"/>
            <a:chOff x="4357800" y="1214280"/>
            <a:chExt cx="4786200" cy="1500840"/>
          </a:xfrm>
        </p:grpSpPr>
        <p:sp>
          <p:nvSpPr>
            <p:cNvPr id="668" name="TextBox 55"/>
            <p:cNvSpPr/>
            <p:nvPr/>
          </p:nvSpPr>
          <p:spPr>
            <a:xfrm>
              <a:off x="4357800" y="1214280"/>
              <a:ext cx="47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0 ножек остались без сапожек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9" name="Прямая со стрелкой 56"/>
            <p:cNvCxnSpPr/>
            <p:nvPr/>
          </p:nvCxnSpPr>
          <p:spPr>
            <a:xfrm flipH="1">
              <a:off x="6572160" y="1785960"/>
              <a:ext cx="643320" cy="9295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Полилиния 58"/>
          <p:cNvSpPr/>
          <p:nvPr/>
        </p:nvSpPr>
        <p:spPr>
          <a:xfrm>
            <a:off x="3073320" y="2884320"/>
            <a:ext cx="3894120" cy="2613240"/>
          </a:xfrm>
          <a:prstGeom prst="pie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Полилиния 52"/>
          <p:cNvSpPr/>
          <p:nvPr/>
        </p:nvSpPr>
        <p:spPr>
          <a:xfrm>
            <a:off x="3664080" y="1876320"/>
            <a:ext cx="3717720" cy="2090880"/>
          </a:xfrm>
          <a:prstGeom prst="pie">
            <a:avLst/>
          </a:prstGeom>
          <a:solidFill>
            <a:srgbClr val="ffffff"/>
          </a:solidFill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674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Box 50"/>
          <p:cNvSpPr/>
          <p:nvPr/>
        </p:nvSpPr>
        <p:spPr>
          <a:xfrm>
            <a:off x="357120" y="1285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1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2" name="TextBox 55"/>
          <p:cNvSpPr/>
          <p:nvPr/>
        </p:nvSpPr>
        <p:spPr>
          <a:xfrm>
            <a:off x="5929200" y="114300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 ног без сапож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3" name="Прямая со стрелкой 56"/>
          <p:cNvCxnSpPr>
            <a:stCxn id="722" idx="2"/>
          </p:cNvCxnSpPr>
          <p:nvPr/>
        </p:nvCxnSpPr>
        <p:spPr>
          <a:xfrm flipH="1">
            <a:off x="6571440" y="1604880"/>
            <a:ext cx="965880" cy="10386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785520"/>
            <a:ext cx="8229600" cy="52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700" spc="-1" strike="noStrike">
                <a:solidFill>
                  <a:srgbClr val="000000"/>
                </a:solidFill>
                <a:latin typeface="Lucida Sans Unicode"/>
              </a:rPr>
              <a:t>Методы обучения и формы занятий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словесные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наглядные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практические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исследовательские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едущим методом является исследовательский. Организаторами исследований могут, кроме учителя, становиться дет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Полилиния 58"/>
          <p:cNvSpPr/>
          <p:nvPr/>
        </p:nvSpPr>
        <p:spPr>
          <a:xfrm>
            <a:off x="3073320" y="2884320"/>
            <a:ext cx="3894120" cy="2613240"/>
          </a:xfrm>
          <a:prstGeom prst="pie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Полилиния 52"/>
          <p:cNvSpPr/>
          <p:nvPr/>
        </p:nvSpPr>
        <p:spPr>
          <a:xfrm>
            <a:off x="3664080" y="1876320"/>
            <a:ext cx="3717720" cy="2090880"/>
          </a:xfrm>
          <a:prstGeom prst="pie">
            <a:avLst/>
          </a:prstGeom>
          <a:solidFill>
            <a:srgbClr val="ffffff"/>
          </a:solidFill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728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Box 50"/>
          <p:cNvSpPr/>
          <p:nvPr/>
        </p:nvSpPr>
        <p:spPr>
          <a:xfrm>
            <a:off x="357120" y="1285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5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6" name="TextBox 55"/>
          <p:cNvSpPr/>
          <p:nvPr/>
        </p:nvSpPr>
        <p:spPr>
          <a:xfrm>
            <a:off x="5929200" y="114300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 ног без сапож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7" name="Прямая со стрелкой 56"/>
          <p:cNvCxnSpPr>
            <a:stCxn id="776" idx="2"/>
          </p:cNvCxnSpPr>
          <p:nvPr/>
        </p:nvCxnSpPr>
        <p:spPr>
          <a:xfrm flipH="1">
            <a:off x="6571440" y="1604880"/>
            <a:ext cx="965880" cy="10386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8" name="TextBox 59"/>
          <p:cNvSpPr/>
          <p:nvPr/>
        </p:nvSpPr>
        <p:spPr>
          <a:xfrm>
            <a:off x="3357720" y="5929200"/>
            <a:ext cx="564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авшиеся ножки в старых сапож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9" name="Прямая со стрелкой 60"/>
          <p:cNvCxnSpPr/>
          <p:nvPr/>
        </p:nvCxnSpPr>
        <p:spPr>
          <a:xfrm flipH="1" flipV="1">
            <a:off x="5714640" y="5109480"/>
            <a:ext cx="572400" cy="8197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Полилиния 58"/>
          <p:cNvSpPr/>
          <p:nvPr/>
        </p:nvSpPr>
        <p:spPr>
          <a:xfrm>
            <a:off x="3073320" y="2884320"/>
            <a:ext cx="3894120" cy="2613240"/>
          </a:xfrm>
          <a:prstGeom prst="pie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Полилиния 52"/>
          <p:cNvSpPr/>
          <p:nvPr/>
        </p:nvSpPr>
        <p:spPr>
          <a:xfrm>
            <a:off x="3664080" y="1876320"/>
            <a:ext cx="3717720" cy="2090880"/>
          </a:xfrm>
          <a:prstGeom prst="pie">
            <a:avLst/>
          </a:prstGeom>
          <a:solidFill>
            <a:srgbClr val="ffffff"/>
          </a:solidFill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784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50"/>
          <p:cNvSpPr/>
          <p:nvPr/>
        </p:nvSpPr>
        <p:spPr>
          <a:xfrm>
            <a:off x="357120" y="1285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1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2" name="TextBox 55"/>
          <p:cNvSpPr/>
          <p:nvPr/>
        </p:nvSpPr>
        <p:spPr>
          <a:xfrm>
            <a:off x="5929200" y="114300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 ног без сап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3" name="Прямая со стрелкой 56"/>
          <p:cNvCxnSpPr>
            <a:stCxn id="832" idx="2"/>
          </p:cNvCxnSpPr>
          <p:nvPr/>
        </p:nvCxnSpPr>
        <p:spPr>
          <a:xfrm flipH="1">
            <a:off x="6571440" y="1604880"/>
            <a:ext cx="786600" cy="10386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4" name="TextBox 59"/>
          <p:cNvSpPr/>
          <p:nvPr/>
        </p:nvSpPr>
        <p:spPr>
          <a:xfrm>
            <a:off x="1500120" y="5857920"/>
            <a:ext cx="76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лько у сороконожки был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тарых сапоже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5" name="Прямая со стрелкой 60"/>
          <p:cNvCxnSpPr/>
          <p:nvPr/>
        </p:nvCxnSpPr>
        <p:spPr>
          <a:xfrm flipH="1" flipV="1">
            <a:off x="5714640" y="5109480"/>
            <a:ext cx="572400" cy="8197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6" name="Прямая соединительная линия 62"/>
          <p:cNvSpPr/>
          <p:nvPr/>
        </p:nvSpPr>
        <p:spPr>
          <a:xfrm>
            <a:off x="3291840" y="4654440"/>
            <a:ext cx="158760" cy="4892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Прямая соединительная линия 64"/>
          <p:cNvSpPr/>
          <p:nvPr/>
        </p:nvSpPr>
        <p:spPr>
          <a:xfrm>
            <a:off x="3897360" y="4440240"/>
            <a:ext cx="109440" cy="6206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Прямая соединительная линия 66"/>
          <p:cNvSpPr/>
          <p:nvPr/>
        </p:nvSpPr>
        <p:spPr>
          <a:xfrm>
            <a:off x="3786120" y="3357720"/>
            <a:ext cx="325440" cy="2966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Прямая соединительная линия 68"/>
          <p:cNvSpPr/>
          <p:nvPr/>
        </p:nvSpPr>
        <p:spPr>
          <a:xfrm>
            <a:off x="4291920" y="3132000"/>
            <a:ext cx="42228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Прямая соединительная линия 70"/>
          <p:cNvSpPr/>
          <p:nvPr/>
        </p:nvSpPr>
        <p:spPr>
          <a:xfrm flipH="1">
            <a:off x="4506480" y="4203720"/>
            <a:ext cx="104760" cy="6652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Прямая соединительная линия 73"/>
          <p:cNvSpPr/>
          <p:nvPr/>
        </p:nvSpPr>
        <p:spPr>
          <a:xfrm flipV="1">
            <a:off x="5149800" y="3571920"/>
            <a:ext cx="493920" cy="417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Прямая соединительная линия 75"/>
          <p:cNvSpPr/>
          <p:nvPr/>
        </p:nvSpPr>
        <p:spPr>
          <a:xfrm flipH="1">
            <a:off x="5214960" y="4560840"/>
            <a:ext cx="6480" cy="6541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Прямая соединительная линия 77"/>
          <p:cNvSpPr/>
          <p:nvPr/>
        </p:nvSpPr>
        <p:spPr>
          <a:xfrm>
            <a:off x="5863680" y="4346640"/>
            <a:ext cx="136440" cy="5112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Прямая соединительная линия 79"/>
          <p:cNvSpPr/>
          <p:nvPr/>
        </p:nvSpPr>
        <p:spPr>
          <a:xfrm>
            <a:off x="6183360" y="3703680"/>
            <a:ext cx="466560" cy="307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Полилиния 58"/>
          <p:cNvSpPr/>
          <p:nvPr/>
        </p:nvSpPr>
        <p:spPr>
          <a:xfrm>
            <a:off x="3073320" y="2884320"/>
            <a:ext cx="3894120" cy="2613240"/>
          </a:xfrm>
          <a:prstGeom prst="pie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Полилиния 52"/>
          <p:cNvSpPr/>
          <p:nvPr/>
        </p:nvSpPr>
        <p:spPr>
          <a:xfrm>
            <a:off x="3664080" y="1876320"/>
            <a:ext cx="3717720" cy="2090880"/>
          </a:xfrm>
          <a:prstGeom prst="pie">
            <a:avLst/>
          </a:prstGeom>
          <a:solidFill>
            <a:srgbClr val="ffffff"/>
          </a:solidFill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849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Box 50"/>
          <p:cNvSpPr/>
          <p:nvPr/>
        </p:nvSpPr>
        <p:spPr>
          <a:xfrm>
            <a:off x="357120" y="1285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6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7" name="TextBox 55"/>
          <p:cNvSpPr/>
          <p:nvPr/>
        </p:nvSpPr>
        <p:spPr>
          <a:xfrm>
            <a:off x="5929200" y="114300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 ног без сап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8" name="Прямая со стрелкой 56"/>
          <p:cNvCxnSpPr>
            <a:stCxn id="897" idx="2"/>
          </p:cNvCxnSpPr>
          <p:nvPr/>
        </p:nvCxnSpPr>
        <p:spPr>
          <a:xfrm flipH="1">
            <a:off x="6571440" y="1604880"/>
            <a:ext cx="786600" cy="10386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9" name="TextBox 59"/>
          <p:cNvSpPr/>
          <p:nvPr/>
        </p:nvSpPr>
        <p:spPr>
          <a:xfrm>
            <a:off x="5143680" y="578628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 пар старых сапож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0" name="Прямая со стрелкой 60"/>
          <p:cNvCxnSpPr/>
          <p:nvPr/>
        </p:nvCxnSpPr>
        <p:spPr>
          <a:xfrm flipH="1" flipV="1">
            <a:off x="5714640" y="5109480"/>
            <a:ext cx="572400" cy="8197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1" name="Прямая соединительная линия 62"/>
          <p:cNvSpPr/>
          <p:nvPr/>
        </p:nvSpPr>
        <p:spPr>
          <a:xfrm>
            <a:off x="3291840" y="4654440"/>
            <a:ext cx="158760" cy="4892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Прямая соединительная линия 64"/>
          <p:cNvSpPr/>
          <p:nvPr/>
        </p:nvSpPr>
        <p:spPr>
          <a:xfrm>
            <a:off x="3897360" y="4440240"/>
            <a:ext cx="109440" cy="6206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Прямая соединительная линия 66"/>
          <p:cNvSpPr/>
          <p:nvPr/>
        </p:nvSpPr>
        <p:spPr>
          <a:xfrm>
            <a:off x="3786120" y="3357720"/>
            <a:ext cx="325440" cy="2966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Прямая соединительная линия 68"/>
          <p:cNvSpPr/>
          <p:nvPr/>
        </p:nvSpPr>
        <p:spPr>
          <a:xfrm>
            <a:off x="4291920" y="3132000"/>
            <a:ext cx="42228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Прямая соединительная линия 70"/>
          <p:cNvSpPr/>
          <p:nvPr/>
        </p:nvSpPr>
        <p:spPr>
          <a:xfrm flipH="1">
            <a:off x="4506480" y="4203720"/>
            <a:ext cx="104760" cy="6652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Прямая соединительная линия 73"/>
          <p:cNvSpPr/>
          <p:nvPr/>
        </p:nvSpPr>
        <p:spPr>
          <a:xfrm flipV="1">
            <a:off x="5149800" y="3571920"/>
            <a:ext cx="493920" cy="417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Прямая соединительная линия 75"/>
          <p:cNvSpPr/>
          <p:nvPr/>
        </p:nvSpPr>
        <p:spPr>
          <a:xfrm flipH="1">
            <a:off x="5214960" y="4560840"/>
            <a:ext cx="6480" cy="6541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Прямая соединительная линия 77"/>
          <p:cNvSpPr/>
          <p:nvPr/>
        </p:nvSpPr>
        <p:spPr>
          <a:xfrm>
            <a:off x="5863680" y="4346640"/>
            <a:ext cx="136440" cy="5112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Прямая соединительная линия 79"/>
          <p:cNvSpPr/>
          <p:nvPr/>
        </p:nvSpPr>
        <p:spPr>
          <a:xfrm>
            <a:off x="6183360" y="3703680"/>
            <a:ext cx="466560" cy="307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Прямоугольник 67"/>
          <p:cNvSpPr/>
          <p:nvPr/>
        </p:nvSpPr>
        <p:spPr>
          <a:xfrm>
            <a:off x="3714840" y="6211800"/>
            <a:ext cx="60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 пар старых сапожек было у сороконож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 того, как она купила нов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1" name=""/>
          <p:cNvGraphicFramePr/>
          <p:nvPr/>
        </p:nvGraphicFramePr>
        <p:xfrm>
          <a:off x="428760" y="1428840"/>
          <a:ext cx="8429400" cy="3794040"/>
        </p:xfrm>
        <a:graphic>
          <a:graphicData uri="http://schemas.openxmlformats.org/drawingml/2006/table">
            <a:tbl>
              <a:tblPr/>
              <a:tblGrid>
                <a:gridCol w="2681280"/>
                <a:gridCol w="676080"/>
                <a:gridCol w="1214640"/>
                <a:gridCol w="714240"/>
                <a:gridCol w="1047600"/>
                <a:gridCol w="1047960"/>
                <a:gridCol w="1047600"/>
              </a:tblGrid>
              <a:tr h="579240">
                <a:tc gridSpan="7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ПР 2020. 5 класс (по программе 4 класс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мет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е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имальный первичный балл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т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09.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9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уппы уча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О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уча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 бал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я выбор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3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696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,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,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мский кр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5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,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18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род Губах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,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,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36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ОУ " Школа №2 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69,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,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2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3" name=""/>
          <p:cNvGraphicFramePr/>
          <p:nvPr/>
        </p:nvGraphicFramePr>
        <p:xfrm>
          <a:off x="428760" y="1428840"/>
          <a:ext cx="8429400" cy="3794040"/>
        </p:xfrm>
        <a:graphic>
          <a:graphicData uri="http://schemas.openxmlformats.org/drawingml/2006/table">
            <a:tbl>
              <a:tblPr/>
              <a:tblGrid>
                <a:gridCol w="2681280"/>
                <a:gridCol w="676080"/>
                <a:gridCol w="1214640"/>
                <a:gridCol w="714240"/>
                <a:gridCol w="1047600"/>
                <a:gridCol w="1047960"/>
                <a:gridCol w="1047600"/>
              </a:tblGrid>
              <a:tr h="579240">
                <a:tc gridSpan="7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ПР 2021. 4 клас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мет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е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имальный первичный балл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т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03.2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9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уппы уча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О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уча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 бал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я выбор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4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282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,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,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мский кр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2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,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,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,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18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род Губах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,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36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ОУ " Школа №2 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61,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90,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18,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4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5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6" name=""/>
          <p:cNvGraphicFramePr/>
          <p:nvPr/>
        </p:nvGraphicFramePr>
        <p:xfrm>
          <a:off x="457200" y="1481040"/>
          <a:ext cx="8258040" cy="3233880"/>
        </p:xfrm>
        <a:graphic>
          <a:graphicData uri="http://schemas.openxmlformats.org/drawingml/2006/table">
            <a:tbl>
              <a:tblPr/>
              <a:tblGrid>
                <a:gridCol w="2328840"/>
                <a:gridCol w="1976400"/>
                <a:gridCol w="1976400"/>
                <a:gridCol w="1976400"/>
              </a:tblGrid>
              <a:tr h="14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ПР 20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0, 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69,7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,4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88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ПР 202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61,6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90,8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18,5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Lucida Sans Unicode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6840" y="1480680"/>
            <a:ext cx="8543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Личностные УУД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Будут сформированы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учебно­познавательный интерес к новому учебному материалу и способам решения новой задачи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риентация на понимание причин успеха в учебной деятельности, в том числе на самоанализ и самоконтроль результата, на анализ соответствия результатов требованиям конкретной задачи, на понимание оценок учителей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способность к оценке своей учебной деятельности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90583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6840" y="148104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Регулятивные УУД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Учащиеся научатся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принимать и сохранять учебную задачу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учитывать выделенные учителем ориентиры действия в новом учебном материале в сотрудничестве с учителем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планировать свои действия в соответствии с поставленной задачей и условиями её реализации, в том числе во внутреннем плане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существлять итоговый и пошаговый контроль по результату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90583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6840" y="148104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Познавательные УУД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Учащиеся научатся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риентироваться на разнообразие способов решения задач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сновам смыслового восприятия текстов, выделять существенную информацию из сообщений разных видов (в первую очередь текстов)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существлять анализ объектов с выделением существенных и несущественных признаков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владеть рядом общих приёмов решения задач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90583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6840" y="148104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Коммуникативные УУД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Учащиеся научатся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формулировать собственное мнение и позицию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задавать вопросы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90583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9" name=""/>
          <p:cNvGraphicFramePr/>
          <p:nvPr/>
        </p:nvGraphicFramePr>
        <p:xfrm>
          <a:off x="457200" y="1719360"/>
          <a:ext cx="8258040" cy="3520800"/>
        </p:xfrm>
        <a:graphic>
          <a:graphicData uri="http://schemas.openxmlformats.org/drawingml/2006/table">
            <a:tbl>
              <a:tblPr/>
              <a:tblGrid>
                <a:gridCol w="473040"/>
                <a:gridCol w="6927840"/>
                <a:gridCol w="857160"/>
              </a:tblGrid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аименование разде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Кол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r>
                        <a:rPr b="1" i="1" lang="el-G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о ча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378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зентация курса. Решение простейших зада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78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актический метод решения задач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78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афический метод решения задач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тод упорядоченного переб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хематичный мет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абличный спосо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тод граф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вое занятие. Рефлекс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  <p:pic>
        <p:nvPicPr>
          <p:cNvPr id="390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63748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7T09:06:39Z</dcterms:created>
  <dc:creator>Buch-02</dc:creator>
  <dc:description/>
  <dc:language>en-US</dc:language>
  <cp:lastModifiedBy>Buch-02</cp:lastModifiedBy>
  <dcterms:modified xsi:type="dcterms:W3CDTF">2021-11-18T10:53:26Z</dcterms:modified>
  <cp:revision>46</cp:revision>
  <dc:subject/>
  <dc:title>Тема выступления</dc:title>
</cp:coreProperties>
</file>